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CCF-5FB5-4C4B-8783-2433B042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EB1-8A52-49A5-8114-0DA3C23A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0B2-EECD-4C9D-9D2F-5E02932D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519-7F43-4EAA-8862-2237AED4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D310-D6D1-4E45-A90A-9565357D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232F-9F2C-4F7B-B80B-8730D013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42F1-4ED3-4F3B-AA43-A9E5B78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FE43-A601-4602-B124-D2DAFF51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E070-6CB6-41E7-BEEC-BB17C19C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69A3-1651-43A1-A138-15169716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9515-67DF-4D4C-8ADE-9D89B65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179-5818-4D40-B554-E80D5A5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385F-82F0-4812-A7A5-B8768AF6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1067-911C-494C-975D-6E8CB2B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69E7-C54E-4F69-91DD-D1EADA07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1477-D6B7-45EC-BC2B-6040AF0E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0DF5-EEF6-4E5E-8C45-6AC11594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C5B-3ADC-450C-9412-74DD5F0E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5B1-C5B1-4B07-B372-B2D0CB61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2FC-CCA3-425D-801A-559FC66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D8E-739F-4250-A02F-8E6CC438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F50-6EF6-4AE4-9659-B1DBE623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431-06AC-44D8-A625-DC722FC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987-D27C-4CF0-8539-C6DE1ECC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7F67-4DCF-4248-A161-76C59276DC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701-4931-4B2B-9601-CBBDA18864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66"/>
                </a:solidFill>
                <a:latin typeface="Garamond"/>
              </a:rPr>
              <a:t>Me llamo __________</a:t>
            </a:r>
            <a:r>
              <a:rPr b="0" lang="en-US" sz="36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999966"/>
                </a:solidFill>
                <a:latin typeface="Garamond"/>
              </a:rPr>
              <a:t>Clase 6 nh(601)</a:t>
            </a:r>
            <a:br>
              <a:rPr sz="3600"/>
            </a:br>
            <a:r>
              <a:rPr b="0" lang="en-US" sz="3600" spc="-1" strike="noStrike">
                <a:solidFill>
                  <a:srgbClr val="999966"/>
                </a:solidFill>
                <a:latin typeface="Garamond"/>
              </a:rPr>
              <a:t> La fecha es el 6 de febrero del 2013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33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omprendes los verbos de cambio radic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juga los siguientes verbos en forma de “BO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enzar (to begi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(to underst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ir (to inj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opezar (to tumble 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travesar (to cro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O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 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O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set of stem-changing verbs 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return 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be able to 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stem changes to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 The endings remain the same as in regular –ER/-IR verb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…. How would you conjugate the verbs EN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wrap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 MOL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grind)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33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 los verbos en forma de BOTA (O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return 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be able to 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3 ORIGINAL SENTENCES with each verb. Make sure you use different pronouns or subjects. Get creative!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9 tot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dcterms:modified xsi:type="dcterms:W3CDTF">2013-02-05T14:17:22Z</dcterms:modified>
  <cp:revision>18</cp:revision>
  <dc:subject/>
  <dc:title>Me llamo __________   Clase 7IM La fecha es el 2 de diciembre del 2010</dc:title>
</cp:coreProperties>
</file>